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A46-CB80-4856-B9E1-F3A9C169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85A-E807-4EBC-9D06-2F070A1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462-9AF6-4A54-9894-AA5A9AB7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8AF-5F61-4912-9A07-56EAA336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E014-31A8-44E3-B92B-A8BFF370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737D0-1697-45AA-9123-F151823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02796-9866-47CB-8849-7259161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80764-FC4F-4C7A-947A-D8D06D8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BE31D-0330-427B-89A6-A9D9E53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E801-5F77-4D05-A2A2-EBAD7573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58C0B-764D-4CD3-8143-91B3470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EFA-43D8-4FC1-A40A-11A67F3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9017-6483-4883-BDEA-9D836BD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31B3-EC89-4165-866F-2232554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26E6D-1443-4961-B63F-F2184BB3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CD15C-B1C6-4BBF-84BD-B7725B25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F1625-B1CD-4123-A761-F08605EC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035-A495-4CE2-BCE5-4DF8354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3D1-98DB-4075-A621-BC20180F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40C-E347-42EA-AEE5-AE16645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50C-CFBD-4E41-AB9B-BDBDD00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165-BC7F-4638-A403-8A71412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7E4-777D-442C-BA92-408BC66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1ED-A7E2-48FF-87E0-FA4E0E6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77C-E1B1-4219-B2A9-F57A352F3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079-6A53-48D5-B6A5-038AED2AB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teacher.net/USProjects/USQuizzes/EarlySettlement1A.htm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 PART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 of Proprietary  Colonies (Gifts from the King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yland – Lord Baltimore (Catholic) – created as a haven for Catholics became partially tolerant of Protestants (164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nsylvania – William Penn and the Quak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cifist, tolerant (religious and Native American)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olin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rth Carolina (resembles Virginia but more democratic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Carolina – settled by Englishmen from Barbados – slave trade ri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tually most proprietary colonies returned to royal own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Confederatio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what was the purpose???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leads to Dominion of 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Coloni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York – Had been New Netherland until Dutch were overtak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rgia – Debtor colony created to allow repayment through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gional Differences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ther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glican, single crop, rural, labor dependent, shorter life sp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Engl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 religious, urban &amp; rural combination, diverse economy, longer life span, lowest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dd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uly middle, tolerant, independent, diverse economy, lower labor nee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Practice Quiz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at is this?) (how did the British government enforc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ench Indian War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fought for control over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bany Pla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purpose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Paris 1763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utcome for France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lamation of 1763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ngers the colonists – why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y is this important in the long ru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ll of Rights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rotect who from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pretation of the Constitu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strict vs. loose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ption, National Bank,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challenge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ation of two-party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acteristics of a Federali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? Foreign relations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Marbury v. Madison establishes the principle of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llpox and the start of slavery leads to…….deaths of millions of N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w global economic system Europe has everyth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U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 –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auses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Who suppor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Who doesn’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oal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ponent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ra of Good Feel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urpose of the nam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rupt Bargai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y named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Clay = Sec of Stat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houn authors “The Exposition” – VP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rgument for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return to the ideals of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ver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oostook War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 vs. who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 is this?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y did it take so long for Texas to be a state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y of Guadalupe Hidalg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who got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mot Provis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purpose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best example of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sets the foundation for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y persecuted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topian commun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desire for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urpos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 of domestici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o,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ah Webster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(contribution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race Mann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(goal of public education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conditions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gitive Slave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Northern response?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o, what, importance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xample of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ed Scott Deci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ublican Par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ess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North &amp; South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advantages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eign involv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goals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aring Presi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ancipation Procla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Pl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ncol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de-Dav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itutional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Amendments (13,14,1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 of Reconstruc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mestown – 1607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successful settlement**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oint-stock company: a group of investors who bought the right to establish New World plantations from the king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Indian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was this last War called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(change church from within ) form larger colony in 1629 (better funded &amp; prepar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Roger Williams banished (creates Rhode Islan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big things about 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igious freedom for a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y Democrat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belief that those predestined need not obey secular law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ty Upon a Hill – John Winthro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rican exceptionalism is the idea that the United States and the American people hold a special place in the world, by offering opportunity and hope for humanity, derived from a unique balance of public and private interests governed by constitutional ideals that are focused on personal and economic freedo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mary source of labor until Bacon’s rebell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y did they rebel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gal in all colonies by 17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9072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11-01-08T15:00:09Z</dcterms:modified>
  <cp:revision>102</cp:revision>
  <dc:subject/>
  <dc:title>PowerPoint Presentation</dc:title>
</cp:coreProperties>
</file>